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3AD-878E-4354-A774-9288D67D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C49-DC09-4D23-8A54-700E571C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26F-6C65-46B5-A795-09FAA296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37B-9DDB-4EE7-A66A-51698FF0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EFE-D254-4E65-8BF8-79AFC1B2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347-6771-4196-9270-58457E94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7F5-BAB4-4274-A33C-4ABDF9AA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5CF-C9C5-457A-9CCE-0B79D471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CC5-1990-4C0B-8417-A0640BE7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8F3-8099-4181-B7D4-287B9E4D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EB1-73E2-4D67-9AC9-5F32FBF8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127-0908-4A78-AD0B-2045E624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8A71-9E6F-4E29-9F1D-D2E062204B29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5280" y="476280"/>
            <a:ext cx="238140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372360" y="404640"/>
            <a:ext cx="2160360" cy="28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19640" y="4005360"/>
            <a:ext cx="1771560" cy="17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3419640" y="981000"/>
            <a:ext cx="2304720" cy="2708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359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938840" y="37278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919760" y="70916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563920" y="90360"/>
            <a:ext cx="40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Θεοφάνης ο Κρής, Άγιος Μάμας (προστάτης των βοσκώ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http://vatopaidi.files.wordpress.com/2009/10/saint-seraphim-of-sarov-bear.jpg?w=445&amp;h=369"/>
          <p:cNvPicPr/>
          <p:nvPr/>
        </p:nvPicPr>
        <p:blipFill>
          <a:blip r:embed="rId1"/>
          <a:stretch/>
        </p:blipFill>
        <p:spPr>
          <a:xfrm>
            <a:off x="324000" y="1916280"/>
            <a:ext cx="3706560" cy="307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2.bp.blogspot.com/_86K2us7JvjQ/TR-l6SAD2yI/AAAAAAAAFIY/h0r3cEuuyr8/s1600/Serafeim_sarof.jpg+2.jp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162320" y="1484280"/>
            <a:ext cx="4802400" cy="4127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881600" y="374256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71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900680" y="1153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180240" y="90360"/>
            <a:ext cx="278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 Σεραφείμ του Σάρωφ και η αρκούδ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http://misha.pblogs.gr/files/f/294317-b_69.jpg"/>
          <p:cNvPicPr/>
          <p:nvPr/>
        </p:nvPicPr>
        <p:blipFill>
          <a:blip r:embed="rId1"/>
          <a:stretch/>
        </p:blipFill>
        <p:spPr>
          <a:xfrm>
            <a:off x="2700360" y="476280"/>
            <a:ext cx="38955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80000" cy="4452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417120" y="38160"/>
            <a:ext cx="230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 Χριστός ως αμνός (πρόβατ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113440" cy="4782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-1285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Άγιος Μακάριο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damAgiosNikolaosAnapsafas"/>
          <p:cNvPicPr/>
          <p:nvPr/>
        </p:nvPicPr>
        <p:blipFill>
          <a:blip r:embed="rId1"/>
          <a:stretch/>
        </p:blipFill>
        <p:spPr>
          <a:xfrm>
            <a:off x="900000" y="1628640"/>
            <a:ext cx="7454880" cy="3456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894400" y="90360"/>
            <a:ext cx="33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Ο Αδάμ ονοματίζει τα ζώα στον παράδεισ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3 NOAH AND THE ARK1285"/>
          <p:cNvPicPr/>
          <p:nvPr/>
        </p:nvPicPr>
        <p:blipFill>
          <a:blip r:embed="rId1"/>
          <a:stretch/>
        </p:blipFill>
        <p:spPr>
          <a:xfrm>
            <a:off x="2556000" y="538200"/>
            <a:ext cx="3816360" cy="6170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4300560" y="9036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Νώ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5 NOAH AND ARK 1411 μινιατουρα"/>
          <p:cNvPicPr/>
          <p:nvPr/>
        </p:nvPicPr>
        <p:blipFill>
          <a:blip r:embed="rId1"/>
          <a:stretch/>
        </p:blipFill>
        <p:spPr>
          <a:xfrm>
            <a:off x="0" y="549360"/>
            <a:ext cx="4448160" cy="443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1846_Edward_Hicks_Noahs_Ark_small"/>
          <p:cNvPicPr/>
          <p:nvPr/>
        </p:nvPicPr>
        <p:blipFill>
          <a:blip r:embed="rId2"/>
          <a:stretch/>
        </p:blipFill>
        <p:spPr>
          <a:xfrm>
            <a:off x="4572000" y="1413000"/>
            <a:ext cx="4448160" cy="3533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4896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wwwebart.com/riverart/nadalian/paintedbody3/snak_fish_01_nadalian.jpg"/>
          <p:cNvPicPr/>
          <p:nvPr/>
        </p:nvPicPr>
        <p:blipFill>
          <a:blip r:embed="rId1"/>
          <a:stretch/>
        </p:blipFill>
        <p:spPr>
          <a:xfrm>
            <a:off x="250920" y="1628640"/>
            <a:ext cx="4324320" cy="324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http://www.wwwebart.com/riverart/nadalian/paintedbody3/snak_hands_02_nadalian.jpg"/>
          <p:cNvPicPr/>
          <p:nvPr/>
        </p:nvPicPr>
        <p:blipFill>
          <a:blip r:embed="rId2"/>
          <a:stretch/>
        </p:blipFill>
        <p:spPr>
          <a:xfrm>
            <a:off x="4643280" y="1628640"/>
            <a:ext cx="4324680" cy="3248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54760" y="9036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Για τις δραστηριότητες της Όλγα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wwwebart.com/riverart/nadalian/green_people/02_green_people.jpg"/>
          <p:cNvPicPr/>
          <p:nvPr/>
        </p:nvPicPr>
        <p:blipFill>
          <a:blip r:embed="rId1"/>
          <a:stretch/>
        </p:blipFill>
        <p:spPr>
          <a:xfrm>
            <a:off x="179280" y="1484280"/>
            <a:ext cx="4533840" cy="340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http://www.wwwebart.com/riverart/paradise/festivals/persiangulf3/guzila_sinai2.jpg"/>
          <p:cNvPicPr/>
          <p:nvPr/>
        </p:nvPicPr>
        <p:blipFill>
          <a:blip r:embed="rId2"/>
          <a:stretch/>
        </p:blipFill>
        <p:spPr>
          <a:xfrm>
            <a:off x="4788000" y="1628640"/>
            <a:ext cx="4217760" cy="3168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4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05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wwwebart.com/riverart/sandprints/goddess_sand_print_01.jpg"/>
          <p:cNvPicPr/>
          <p:nvPr/>
        </p:nvPicPr>
        <p:blipFill>
          <a:blip r:embed="rId1"/>
          <a:stretch/>
        </p:blipFill>
        <p:spPr>
          <a:xfrm>
            <a:off x="250920" y="1557360"/>
            <a:ext cx="4324320" cy="324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http://www.wwwebart.com/riverart/france/children/007.jpg"/>
          <p:cNvPicPr/>
          <p:nvPr/>
        </p:nvPicPr>
        <p:blipFill>
          <a:blip r:embed="rId2"/>
          <a:stretch/>
        </p:blipFill>
        <p:spPr>
          <a:xfrm>
            <a:off x="4643280" y="907920"/>
            <a:ext cx="3781440" cy="5038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wwwebart.com/riverart/south_korea/nadalian_03_newlife_stream_seoul_south_korea.jpg"/>
          <p:cNvPicPr/>
          <p:nvPr/>
        </p:nvPicPr>
        <p:blipFill>
          <a:blip r:embed="rId1"/>
          <a:stretch/>
        </p:blipFill>
        <p:spPr>
          <a:xfrm>
            <a:off x="1619280" y="333360"/>
            <a:ext cx="527688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http://www.wwwebart.com/riverart/paradise/festivals/persiangulf/garbeg/garbage02s_environmetal_art.jpg"/>
          <p:cNvPicPr/>
          <p:nvPr/>
        </p:nvPicPr>
        <p:blipFill>
          <a:blip r:embed="rId2"/>
          <a:stretch/>
        </p:blipFill>
        <p:spPr>
          <a:xfrm>
            <a:off x="3492360" y="4076640"/>
            <a:ext cx="1886040" cy="2524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962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wwwebart.com/riverart/paradise/festivals/persiangulf2/garbege/1garbege_installation_stude.jpg"/>
          <p:cNvPicPr/>
          <p:nvPr/>
        </p:nvPicPr>
        <p:blipFill>
          <a:blip r:embed="rId1"/>
          <a:stretch/>
        </p:blipFill>
        <p:spPr>
          <a:xfrm>
            <a:off x="2050920" y="115920"/>
            <a:ext cx="4857840" cy="3238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http://www.wwwebart.com/riverart/paradise/festivals/persiangulf2/garbege/7garbege_installation.jpg"/>
          <p:cNvPicPr/>
          <p:nvPr/>
        </p:nvPicPr>
        <p:blipFill>
          <a:blip r:embed="rId2"/>
          <a:stretch/>
        </p:blipFill>
        <p:spPr>
          <a:xfrm>
            <a:off x="2050920" y="3429000"/>
            <a:ext cx="4857840" cy="3238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6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wwwebart.com/multimedia/gardens/nadalian_behzad.JPG"/>
          <p:cNvPicPr/>
          <p:nvPr/>
        </p:nvPicPr>
        <p:blipFill>
          <a:blip r:embed="rId1"/>
          <a:stretch/>
        </p:blipFill>
        <p:spPr>
          <a:xfrm>
            <a:off x="1979640" y="189000"/>
            <a:ext cx="5305320" cy="373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http://www.wwwebart.com/multimedia/nuclearenergy/images/nadalian_nucler_energy_08.jpg"/>
          <p:cNvPicPr/>
          <p:nvPr/>
        </p:nvPicPr>
        <p:blipFill>
          <a:blip r:embed="rId2"/>
          <a:stretch/>
        </p:blipFill>
        <p:spPr>
          <a:xfrm>
            <a:off x="2916360" y="3933720"/>
            <a:ext cx="3581280" cy="2664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wwwebart.com/riverart/iran/haraz/birds/nadalian_carved_stone_bird_08c.jpg"/>
          <p:cNvPicPr/>
          <p:nvPr/>
        </p:nvPicPr>
        <p:blipFill>
          <a:blip r:embed="rId1"/>
          <a:stretch/>
        </p:blipFill>
        <p:spPr>
          <a:xfrm>
            <a:off x="2124000" y="260280"/>
            <a:ext cx="4552920" cy="323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http://www.wwwebart.com/riverart/newlife/froge_01_new_life_nadalian.jpg"/>
          <p:cNvPicPr/>
          <p:nvPr/>
        </p:nvPicPr>
        <p:blipFill>
          <a:blip r:embed="rId2"/>
          <a:stretch/>
        </p:blipFill>
        <p:spPr>
          <a:xfrm>
            <a:off x="2124000" y="3429000"/>
            <a:ext cx="4565880" cy="3313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69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8421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4341600" cy="304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2843280" y="3257640"/>
            <a:ext cx="4321080" cy="3411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2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268360" y="692280"/>
            <a:ext cx="4535640" cy="5040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038760" y="90360"/>
            <a:ext cx="30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blo Picasso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anbino Con Colomb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19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50920" y="692280"/>
            <a:ext cx="4897440" cy="5473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238200" y="90360"/>
            <a:ext cx="266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anley Spencer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 Francis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11280" y="1197000"/>
            <a:ext cx="424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11280" y="476280"/>
            <a:ext cx="4681800" cy="5689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878920" y="90360"/>
            <a:ext cx="33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bib Allah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Concourse of the Bird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ούφι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9:58:37Z</dcterms:created>
  <dc:creator>marcia</dc:creator>
  <dc:description/>
  <dc:language>en-US</dc:language>
  <cp:lastModifiedBy>marcia</cp:lastModifiedBy>
  <dcterms:modified xsi:type="dcterms:W3CDTF">2011-05-04T10:17:23Z</dcterms:modified>
  <cp:revision>14</cp:revision>
  <dc:subject/>
  <dc:title>Διαφάνεια 1</dc:title>
</cp:coreProperties>
</file>